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1A97E-78C2-45B2-92A6-25931265E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level – fair execution of process steps and user automata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– fair access to shared 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passes….if a process is in T for some time, the during this time, some other user may enter C only a number of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exclusion : similar to dijkstra. If proc I and j are in C, assume I sets flag first. After j sets flag to 1, it has to check to see if I has flag = 1, but this will happen while flag(i)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ex: means that if two things are in C, then number(i),I &lt; number(j),j and vice versa which is a contra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Proof by contradiction. Suppose all processes in T or R because progress is not guaranteed. All processes in T eventually complete so process with lowest is going to enter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out freedom: complex 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writer: Process I goes from T to C…writes atleast one shared var. So if there are two process, then atleast n shared vars req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relation: s pi sprime where s and sprime are automaton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enabled: for every automaton state S and transition pi, there is exists sprime such that s pi sprime is in tr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ty restrictions: Any state change not involving shared var can change state in local proces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variables: only read and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region is between try and c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 is between crit and 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 is between exit and 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 is between rem and nex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formed: A try-crit-exit-rem is the prefix to many mor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ex: No reachable system state in which more than one user is in a critic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If one program is in try and none in critical then at some point someone enters C. Similarly for exit region and non 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wo are safety properties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iveness….notion of fairness in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progress….upto users also…not just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out: No guarantee that everyone will get to critic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932E6-1C54-4376-95F3-872D2CEF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42FF6-D9D0-41EB-98F8-4894D067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30A04-5F94-4E16-A037-47825E0F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BA6F6-CAE4-4CD1-8320-805F3EFC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D9E6-A4CC-4E65-94B3-2C03B9C0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DBF0-6C5E-4EF5-8085-F3E39555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6CE5-9706-451E-A65C-40860E15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22A6-B01E-435C-BAE2-432137C2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3382-A058-49B5-97C3-67061D48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CC27-B2EF-4B96-B1A8-86421471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1830-AA4E-41EC-9752-02A7F7D7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58B0A-CF39-41B8-8550-8738C463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8CBB-93F9-4DE0-9B2E-82AB9737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DEFE-F6BE-4819-A536-FFE61146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96CD-B433-4B29-A132-2E661037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7092-AADD-4BD4-A056-4822F2E9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51A9-2098-472A-BEE7-E1690F2B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CF17D-D945-485B-844E-62AD40FB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CE811-AD03-4071-BE84-4D806952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465F8-3101-4DAD-BD6F-78896442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B0D9F-2BB0-4478-9A8F-133D2088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D30A8-F21E-4A4C-8755-4BA1D251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19F56-100E-4F94-989B-97365AB8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80AB6-9897-4C30-A825-1D0E24B2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EF45-DCF0-4803-83E2-61CAEFC55E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1A2D-0909-45A6-A760-652A519DAC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utual Exclus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sented by: Rohan S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stributed Algorithms Ch. 1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er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ockouts or sta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ds of fai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evel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er Conditions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kout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user that reaches T eventually enter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user that reaches E eventually enters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b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user returns resource within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each step is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you enter C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= f(l,c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enterin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you enter R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= f(l,c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entering 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byp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k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level eliminate on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– k processes can win at level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process can win at level n – 1, yielding mutual 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85800" y="2362320"/>
                <a:ext cx="4425840" cy="17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rn(k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d / wr by all, initially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(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d by all j ≠ i / wr by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00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66680" y="1981080"/>
                <a:ext cx="5829480" cy="33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</m:t>
                        </m:r>
                        <m:r>
                          <m:t xml:space="preserve">[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ou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. Using Single Writer Shared Registers (BurnsME Algorith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if anyone else is trying to get a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claim on the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09480" y="2286000"/>
                <a:ext cx="34527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ag(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r by i / rd by all j ≠ I, initially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066680" y="1828800"/>
                <a:ext cx="381024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 that will be cov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and 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jkstra’s Mutual Exclusion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er Conditions for Mutual Exclus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out-free Mutual Exclus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Writer Shared Register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kery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after a wait-free doo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rwa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picks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s for everyone to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ties and enter critical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7200" y="2057400"/>
                <a:ext cx="3394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∈</m:t>
                        </m:r>
                        <m:r>
                          <m:t xml:space="preserve"> </m:t>
                        </m:r>
                        <m:r>
                          <m:t xml:space="preserve">Ν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osng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 by i / rd by all j ≠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umber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 by i / rd by all j ≠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257760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5800" y="1828800"/>
                <a:ext cx="7924680" cy="42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lockout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bound on # reg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olve mutual exclusion with &lt;n shared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writer 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 writer 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: One at a time access to a shared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w/o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w/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ing the number of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ared memor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rocess is a kind of stat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kinds of actions: input, output, in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ommunication via the 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 a transition relation for all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is input-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output and internal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ity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shared variable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 of single, indivisible, non-shareable resource amo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by a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der (non-critical reg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2666880"/>
            <a:ext cx="1981080" cy="20574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02800" y="2666880"/>
            <a:ext cx="5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2895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010280" y="3429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7057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5029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interface of a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ared memory syste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lves the mutual exclusion 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the following conditions are satisfi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form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two stage flag to indicate what stage of processing a user i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mutual exclusion by ensuring that only one flag at a time has a value to let it into the critical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62120" y="2311560"/>
                <a:ext cx="60195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,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r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 / wr by all processes, intially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 by all / wr by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75248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295280" y="1752480"/>
                <a:ext cx="4876920" cy="460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i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 </m:t>
                        </m:r>
                        <m:r>
                          <m:t xml:space="preserve">≠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well-form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inspection of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tatu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lex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4:22:41Z</dcterms:created>
  <dc:creator>Rohan Sen</dc:creator>
  <dc:description/>
  <dc:language>en-US</dc:language>
  <cp:lastModifiedBy>Rohan Sen</cp:lastModifiedBy>
  <dcterms:modified xsi:type="dcterms:W3CDTF">2003-09-19T18:11:57Z</dcterms:modified>
  <cp:revision>27</cp:revision>
  <dc:subject/>
  <dc:title>Mutual Exclusion</dc:title>
</cp:coreProperties>
</file>